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FC9-1861-4452-94D1-6B12E8AA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64D-3E1D-4D20-8137-AA0E36A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024-4611-4EC2-9E12-3C736CF1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FC5-9BCD-4E64-BF5E-1FA790E4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180-7EB4-471D-82EC-055EBAD1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559-F6CC-47CA-8768-511E32B8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A1C-FCFB-4F6D-9221-706A436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627-0673-424C-9594-66DCB61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FF65-425C-425F-880A-7B34E12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21F-7F0F-4921-A923-545F4C9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9B00-E968-4D4B-997A-67672BF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F2A4-1FA1-4F28-9A4C-9139B47A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586-9409-4F35-9F3B-29E1175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280B-95EA-4540-8AD1-C6385A01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774-25E6-43F6-981F-5F17E12A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1593-702B-47AD-9373-3A9EB0F9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86EB-39AE-45AB-9325-EC6BD3E3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0C71-064B-4483-853A-C9E97E26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5631-60B2-4028-8CC8-B56E698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DFDF-35C6-4BD7-BF87-20E7093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18A2-76B8-44E2-9CCC-63F8890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E995-7559-457E-B08E-A110828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D991-85BE-474B-8DC5-BD7804A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6AB7-94A3-4C1E-9E77-EBCA92C6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E13C-05AA-45F6-B1F1-948901F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5FB2-08B0-46A3-9D15-165CDD1D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7ED2-C3B1-4AE6-8BF1-D062815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FB22-6709-422E-AB17-2C402DF4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4DE7-B49E-44D5-B11C-DB1D2A51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7CFA-8005-410F-B4F1-1AF624B8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8FFC-DE6A-460E-B0B1-E1DCDD35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35D4-6BC6-4B57-AEA8-D219781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D77C-7B2B-4D5C-891B-7A0CAF7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FC69-0C8B-41EF-A39F-68D14A8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7BF7-D8E6-4C6F-9AA9-26A212E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7551-8C1E-4F57-BF33-5AD91BF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8518-B79F-43FC-9868-97462F8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7434-164A-4E1F-A0A3-0D769CED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49EB-307E-4C54-BC34-6BA26667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9B77-CB6A-41D0-A448-8FA81F9B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696F-E2DE-4417-8E01-1492240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FC50-A870-4D94-A870-2C98127C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45D7-B748-4E0C-8BDD-3B4032B7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33A0-A68D-49BA-9A93-467F1FF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B811-4644-449E-BEC8-0D67055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8D60-2C92-4790-A83E-5F98402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F3FE-3612-4DB2-BB73-38D16DF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6A86-9D10-4DE1-B1F6-3BEDCEC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4221-BB02-4241-B794-C1D80C5C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BA9C-DCAF-4F90-B8E7-4BF09B0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429C-5CE6-402F-9ED1-D7122E40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5C61-1895-4F87-955C-C05199A1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A0F3-FCB1-4C39-9365-FC26BCA9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1293D-7DB4-4860-985B-226B1EB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7872-704E-4CC6-887C-92FBDBC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5D5F-02F1-461A-9DAD-92201C2A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31230-D6D4-432A-9255-7DC2B313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7B94-C010-4976-A2DA-AA36E9E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7846-AABA-460F-9D69-C8EFAB1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B29-B199-48B6-BA12-BE82289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BAD51-36D0-49C6-83A9-07D97A8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7B6B-E5B4-4910-8510-ECF153F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1439-7A09-4075-B670-671F2A21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5BF0-34A9-4FF9-A35D-388A07B9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D29D-78AD-473D-815D-171B7442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707F7-2948-43DB-952D-7C79F934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3CA5-2E67-4508-933C-FF15BAC0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71AE-15CB-4A68-A53A-FF3CC4D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EB30-6BD5-4DBE-9514-26048C3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6847-E3D5-4039-B9D6-246A63F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E144-3AEE-4473-B0A7-8071712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9140-5617-4911-A36F-60E6196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9C09-0149-4E13-B66A-9CD6E5B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56E1B-C3F2-4E9C-80AE-16B45D1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F6C0-0EDB-4225-9AAA-6F8876D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19E10-54DA-436A-8AE8-0E3EBA82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4E67-9009-4DED-BD93-308B2EFF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6111-85F5-4C71-ABD3-2E40360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B8F1-D8D5-48A1-ABDD-F66D8673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B706F-4878-47D2-8E63-E73D5CE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5F75-9B44-4DBD-8DA7-3E52BAC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9A23-84A9-4572-A2D1-9AC9D87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1CAE1-C798-4AE3-9C47-ED02A19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5C159-E335-4A2A-9DFF-B1FC70A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999AD-DD1F-4874-A550-D41A3C53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E6F0-03CA-4443-B32B-B682F92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A63F-6192-4904-B2D6-C3FD2BF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6791-A3F8-40E6-B764-F857DB4A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D8206-128D-4F4E-9956-B08C400F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98F1-C593-408B-A7AA-D7DE4E2F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3481-EC16-4E59-90D0-2C4B716E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8A24F-12B5-447A-8696-65F4655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8A3E3-FFA2-4022-A010-FD1539C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D250D-2D9D-4007-99A0-BB1BFFD2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9DFB-9687-4F75-83F7-215CB8A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F619-5502-4617-8755-30286414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EF56-5CD7-4BC2-A48B-E03ABF5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398D2-630E-40E6-B430-FA0B777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1261-4E9B-42C5-81F6-A7A261E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AD548-1D09-4B07-BF2F-871CDB6A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8879B-4FD4-41CC-A3BD-EFAF392F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ACD04-75FE-4CA3-954C-A023D04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1FC72-7A12-46C3-8F46-1E91625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DF8BA-3293-4E99-8766-088F523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87787-1C18-4587-8BCF-35B4A0B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8AAD3-1602-475B-915B-02184A90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A1C86-5FE5-4F41-86B3-38ABDCA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2683A-4FF9-4FFD-926B-1D6B025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B0B7F-D354-432E-ADBD-76454DE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E46F8-F4A9-46FA-8C8B-01640A4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97AD1-FC65-40B7-8BB8-B8C58BAF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3F9BC-95E0-4D78-AEBC-AB8FED05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32D3F-ECA5-4D14-B85F-8D8DB0AF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59192-ED34-4156-AB72-876A96A2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5692E-95F9-43D8-B0BD-59ACEFEE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10C99-5D2E-467F-BB18-8C88A8B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D0DEB-D0C4-41AE-B4B9-B7F48D2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22D3E-0ED4-478D-93E5-D87A507B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C45C-D298-4902-B970-1346305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3B874-2F5A-42FA-A6E6-783F365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5367E-545E-4A5B-8EFA-205ACA96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9DCE-1AC7-4626-8234-62DD9A9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FBE3F-605F-4D8D-BBE8-D563B68D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0772-C0E5-4F9B-A61D-77296E7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DEA57-3213-4DB5-96B2-1F25352B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F14-A73C-426C-88D2-EC31BE85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9D5-D14D-4948-BC66-3A26486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E4C-5696-46CC-A182-50D66AD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A1A-439D-4928-9D5C-446EDEC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56B-C730-4AB9-88E9-3EA2C78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F22-1F05-4375-A1F5-3093111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680-067F-4F37-88A9-38E5CF3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31C1-8B95-4D72-AC5A-0860AA9BDEC0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f400"/>
          </a:solidFill>
          <a:ln w="9360">
            <a:solidFill>
              <a:srgbClr val="00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ff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fffc00"/>
          </a:solidFill>
          <a:ln w="9360">
            <a:solidFill>
              <a:srgbClr val="ff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3"/>
          <p:cNvSpPr/>
          <p:nvPr/>
        </p:nvSpPr>
        <p:spPr>
          <a:xfrm>
            <a:off x="142920" y="322200"/>
            <a:ext cx="8880480" cy="6351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0" y="0"/>
            <a:ext cx="8523360" cy="1125360"/>
          </a:xfrm>
          <a:custGeom>
            <a:avLst/>
            <a:gdLst>
              <a:gd name="textAreaLeft" fmla="*/ 0 w 8523360"/>
              <a:gd name="textAreaRight" fmla="*/ 4262400 w 85233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573" h="1000">
                <a:moveTo>
                  <a:pt x="0" y="0"/>
                </a:moveTo>
                <a:lnTo>
                  <a:pt x="7072" y="0"/>
                </a:lnTo>
                <a:cubicBezTo>
                  <a:pt x="7349" y="0"/>
                  <a:pt x="7573" y="223"/>
                  <a:pt x="7573" y="500"/>
                </a:cubicBezTo>
                <a:cubicBezTo>
                  <a:pt x="7573" y="776"/>
                  <a:pt x="7349" y="999"/>
                  <a:pt x="7073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CF1-2609-43F4-8048-1B32EECE7E1D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1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E6C1-F724-49B7-B2A9-720550D68F0C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764-ADB3-43EA-8103-A8CEEDD277A0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0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CFF-ED78-45B0-BDCC-41D304E13DD5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4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CC40-12E0-43E8-879A-3027AD0679F7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8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F1E-486D-496D-885F-4CADA7DF9646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3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6C0-2E3F-498E-8DA8-6590DC1F2A9D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138240" y="476280"/>
            <a:ext cx="8862840" cy="61642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8459640" cy="1104840"/>
          </a:xfrm>
          <a:custGeom>
            <a:avLst/>
            <a:gdLst>
              <a:gd name="textAreaLeft" fmla="*/ 0 w 8459640"/>
              <a:gd name="textAreaRight" fmla="*/ 4230360 w 84596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7657" h="1000">
                <a:moveTo>
                  <a:pt x="0" y="0"/>
                </a:moveTo>
                <a:lnTo>
                  <a:pt x="7156" y="0"/>
                </a:lnTo>
                <a:cubicBezTo>
                  <a:pt x="7433" y="0"/>
                  <a:pt x="7657" y="223"/>
                  <a:pt x="7657" y="500"/>
                </a:cubicBezTo>
                <a:cubicBezTo>
                  <a:pt x="7657" y="776"/>
                  <a:pt x="7433" y="999"/>
                  <a:pt x="7157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7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A7C-BEC6-4C8C-9351-E8487C85A815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2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B092-3FD9-49C4-AB13-EC55B96E977C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C47-9C97-4ACE-9181-5DD27E703C9D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>
            <a:off x="166680" y="533520"/>
            <a:ext cx="8827920" cy="613404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8534520" cy="1131840"/>
          </a:xfrm>
          <a:custGeom>
            <a:avLst/>
            <a:gdLst>
              <a:gd name="textAreaLeft" fmla="*/ 0 w 8534520"/>
              <a:gd name="textAreaRight" fmla="*/ 4267440 w 853452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7540" h="1000">
                <a:moveTo>
                  <a:pt x="0" y="0"/>
                </a:moveTo>
                <a:lnTo>
                  <a:pt x="7039" y="0"/>
                </a:lnTo>
                <a:cubicBezTo>
                  <a:pt x="7316" y="0"/>
                  <a:pt x="7540" y="223"/>
                  <a:pt x="7540" y="500"/>
                </a:cubicBezTo>
                <a:cubicBezTo>
                  <a:pt x="7540" y="776"/>
                  <a:pt x="7316" y="999"/>
                  <a:pt x="7040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c00"/>
          </a:solidFill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818181"/>
          </a:solidFill>
          <a:ln w="936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bbfe"/>
          </a:solidFill>
          <a:ln w="9360">
            <a:solidFill>
              <a:srgbClr val="00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ea8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ea850a"/>
          </a:solidFill>
          <a:ln w="9360">
            <a:solidFill>
              <a:srgbClr val="ea8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2769a"/>
            </a:gs>
            <a:gs pos="100000">
              <a:srgbClr val="91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2 Rectángulo" descr=""/>
          <p:cNvPicPr/>
          <p:nvPr/>
        </p:nvPicPr>
        <p:blipFill>
          <a:blip r:embed="rId1"/>
          <a:stretch/>
        </p:blipFill>
        <p:spPr>
          <a:xfrm>
            <a:off x="1122480" y="2535120"/>
            <a:ext cx="7010280" cy="112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7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COND v. 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395280" y="4437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IFFERENCE: SECOND and THIRD CONDI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ab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conditional: refers to the present and futu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conditional: refers to the past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210960" y="1622520"/>
            <a:ext cx="839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f I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e00000"/>
                </a:solidFill>
                <a:latin typeface="Comic Sans MS"/>
              </a:rPr>
              <a:t>saw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car accident,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would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all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ambulance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112680" y="2852640"/>
            <a:ext cx="903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e00000"/>
                </a:solidFill>
                <a:latin typeface="Comic Sans MS"/>
              </a:rPr>
              <a:t>had see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car accident,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would have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call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ambulance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1116000" y="2276640"/>
            <a:ext cx="80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I don’t see an accident now. This is unlikely to happe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3708360" y="3500280"/>
            <a:ext cx="51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I didn’t see an accident yesterday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 contrary to the fact in the p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IRST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23"/>
          <p:cNvSpPr/>
          <p:nvPr/>
        </p:nvSpPr>
        <p:spPr>
          <a:xfrm>
            <a:off x="395280" y="1341360"/>
            <a:ext cx="8485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eather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  <a:ea typeface="Times New Roman"/>
              </a:rPr>
              <a:t>is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ce,     we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will 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 walk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  <a:ea typeface="Times New Roman"/>
              </a:rPr>
              <a:t>don’t apologiz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he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ver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trust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ag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24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25"/>
          <p:cNvSpPr/>
          <p:nvPr/>
        </p:nvSpPr>
        <p:spPr>
          <a:xfrm>
            <a:off x="529272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539640" y="4581360"/>
            <a:ext cx="8136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conditional refers to the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It expresses a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ossible condi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its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robable result in the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971640" y="3068640"/>
            <a:ext cx="287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lause: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</a:rPr>
              <a:t>PRESENT SIMP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4356000" y="3068640"/>
            <a:ext cx="288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400"/>
            </a:br>
            <a:r>
              <a:rPr b="1" lang="en-GB" sz="2400" spc="-1" strike="noStrike">
                <a:solidFill>
                  <a:srgbClr val="007200"/>
                </a:solidFill>
                <a:latin typeface="Arial"/>
              </a:rPr>
              <a:t>FUTURE SI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2"/>
          <p:cNvSpPr/>
          <p:nvPr/>
        </p:nvSpPr>
        <p:spPr>
          <a:xfrm>
            <a:off x="826920" y="1341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ck wants to buy a house but he can’t do this because he doesn’t have any mone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AutoShape 3"/>
          <p:cNvSpPr/>
          <p:nvPr/>
        </p:nvSpPr>
        <p:spPr>
          <a:xfrm>
            <a:off x="539640" y="2421000"/>
            <a:ext cx="5040360" cy="1295280"/>
          </a:xfrm>
          <a:prstGeom prst="wedgeEllipseCallout">
            <a:avLst>
              <a:gd name="adj1" fmla="val -1180"/>
              <a:gd name="adj2" fmla="val 113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lot of mone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ould bu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big ho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8" name="Picture 4" descr="j0230754"/>
          <p:cNvPicPr/>
          <p:nvPr/>
        </p:nvPicPr>
        <p:blipFill>
          <a:blip r:embed="rId1">
            <a:grayscl/>
          </a:blip>
          <a:stretch/>
        </p:blipFill>
        <p:spPr>
          <a:xfrm>
            <a:off x="1498680" y="4221000"/>
            <a:ext cx="1971720" cy="239904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5"/>
          <p:cNvGrpSpPr/>
          <p:nvPr/>
        </p:nvGrpSpPr>
        <p:grpSpPr>
          <a:xfrm>
            <a:off x="5940360" y="2422440"/>
            <a:ext cx="2736720" cy="2519280"/>
            <a:chOff x="5940360" y="2422440"/>
            <a:chExt cx="2736720" cy="2519280"/>
          </a:xfrm>
        </p:grpSpPr>
        <p:sp>
          <p:nvSpPr>
            <p:cNvPr id="920" name="AutoShape 6"/>
            <p:cNvSpPr/>
            <p:nvPr/>
          </p:nvSpPr>
          <p:spPr>
            <a:xfrm>
              <a:off x="5940360" y="242244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21" name="Picture 7" descr="bd06132_"/>
            <p:cNvPicPr/>
            <p:nvPr/>
          </p:nvPicPr>
          <p:blipFill>
            <a:blip r:embed="rId2"/>
            <a:stretch/>
          </p:blipFill>
          <p:spPr>
            <a:xfrm>
              <a:off x="6661080" y="2854080"/>
              <a:ext cx="122544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8"/>
          <p:cNvGrpSpPr/>
          <p:nvPr/>
        </p:nvGrpSpPr>
        <p:grpSpPr>
          <a:xfrm>
            <a:off x="5940360" y="2421000"/>
            <a:ext cx="2736720" cy="2519280"/>
            <a:chOff x="5940360" y="2421000"/>
            <a:chExt cx="2736720" cy="2519280"/>
          </a:xfrm>
        </p:grpSpPr>
        <p:sp>
          <p:nvSpPr>
            <p:cNvPr id="923" name="AutoShape 9"/>
            <p:cNvSpPr/>
            <p:nvPr/>
          </p:nvSpPr>
          <p:spPr>
            <a:xfrm>
              <a:off x="5940360" y="242100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24" name="Picture 10" descr="bl00345_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300720" y="2565360"/>
              <a:ext cx="2089080" cy="163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 Box 11"/>
          <p:cNvSpPr/>
          <p:nvPr/>
        </p:nvSpPr>
        <p:spPr>
          <a:xfrm>
            <a:off x="32400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684360" y="4365720"/>
            <a:ext cx="3958560" cy="2193840"/>
            <a:chOff x="684360" y="4365720"/>
            <a:chExt cx="3958560" cy="2193840"/>
          </a:xfrm>
        </p:grpSpPr>
        <p:pic>
          <p:nvPicPr>
            <p:cNvPr id="927" name="Picture 3" descr="j0230737"/>
            <p:cNvPicPr/>
            <p:nvPr/>
          </p:nvPicPr>
          <p:blipFill>
            <a:blip r:embed="rId1"/>
            <a:stretch/>
          </p:blipFill>
          <p:spPr>
            <a:xfrm>
              <a:off x="2041920" y="4365720"/>
              <a:ext cx="260100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" descr="j0230332"/>
            <p:cNvPicPr/>
            <p:nvPr/>
          </p:nvPicPr>
          <p:blipFill>
            <a:blip r:embed="rId2"/>
            <a:stretch/>
          </p:blipFill>
          <p:spPr>
            <a:xfrm>
              <a:off x="684360" y="5750280"/>
              <a:ext cx="1290600" cy="78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5"/>
          <p:cNvGrpSpPr/>
          <p:nvPr/>
        </p:nvGrpSpPr>
        <p:grpSpPr>
          <a:xfrm>
            <a:off x="6084720" y="2637000"/>
            <a:ext cx="2736720" cy="2376360"/>
            <a:chOff x="6084720" y="2637000"/>
            <a:chExt cx="2736720" cy="2376360"/>
          </a:xfrm>
        </p:grpSpPr>
        <p:pic>
          <p:nvPicPr>
            <p:cNvPr id="930" name="Picture 6" descr="j0230746"/>
            <p:cNvPicPr/>
            <p:nvPr/>
          </p:nvPicPr>
          <p:blipFill>
            <a:blip r:embed="rId3"/>
            <a:stretch/>
          </p:blipFill>
          <p:spPr>
            <a:xfrm>
              <a:off x="6732360" y="2925720"/>
              <a:ext cx="13064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AutoShape 7"/>
            <p:cNvSpPr/>
            <p:nvPr/>
          </p:nvSpPr>
          <p:spPr>
            <a:xfrm>
              <a:off x="6084720" y="2637000"/>
              <a:ext cx="2736720" cy="2376360"/>
            </a:xfrm>
            <a:prstGeom prst="cloudCallout">
              <a:avLst>
                <a:gd name="adj1" fmla="val -139731"/>
                <a:gd name="adj2" fmla="val 32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2" name="Text Box 8"/>
          <p:cNvSpPr/>
          <p:nvPr/>
        </p:nvSpPr>
        <p:spPr>
          <a:xfrm>
            <a:off x="826920" y="141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san wants to phone Paul but she can’t do this because she doesn’t know his numbe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9"/>
          <p:cNvSpPr/>
          <p:nvPr/>
        </p:nvSpPr>
        <p:spPr>
          <a:xfrm>
            <a:off x="539640" y="2565360"/>
            <a:ext cx="4680000" cy="1008000"/>
          </a:xfrm>
          <a:prstGeom prst="wedgeEllipseCallout">
            <a:avLst>
              <a:gd name="adj1" fmla="val 10277"/>
              <a:gd name="adj2" fmla="val 152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number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ould pho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755640" y="148428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h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lot of money, I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would bu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number, I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would pho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Line 3"/>
          <p:cNvSpPr/>
          <p:nvPr/>
        </p:nvSpPr>
        <p:spPr>
          <a:xfrm>
            <a:off x="2050920" y="249228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5796000" y="2565360"/>
            <a:ext cx="0" cy="7192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 Box 5"/>
          <p:cNvSpPr/>
          <p:nvPr/>
        </p:nvSpPr>
        <p:spPr>
          <a:xfrm>
            <a:off x="324000" y="3213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-clause: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ST TENSE SI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6"/>
          <p:cNvSpPr/>
          <p:nvPr/>
        </p:nvSpPr>
        <p:spPr>
          <a:xfrm>
            <a:off x="3924360" y="3213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PRESENT CONDITIONAL</a:t>
            </a:r>
            <a:br>
              <a:rPr sz="2400"/>
            </a:br>
            <a:r>
              <a:rPr b="1" lang="sl-SI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ould + infin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 Box 8"/>
          <p:cNvSpPr/>
          <p:nvPr/>
        </p:nvSpPr>
        <p:spPr>
          <a:xfrm>
            <a:off x="557280" y="4508640"/>
            <a:ext cx="7957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cond conditional refers to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the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xpress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unreal situ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its probable resul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tuation or condition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bable, impossib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agina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or contrary to known fa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2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IRST v. 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Text Box 13"/>
          <p:cNvSpPr/>
          <p:nvPr/>
        </p:nvSpPr>
        <p:spPr>
          <a:xfrm>
            <a:off x="61128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IFFERENCE: FIRST and SECOND CONDI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onditionals refer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ab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conditional: real and possible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conditional: unlikely to 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395280" y="1628640"/>
            <a:ext cx="62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John </a:t>
            </a:r>
            <a:r>
              <a:rPr b="0" lang="en-GB" sz="2600" spc="-1" strike="noStrike">
                <a:solidFill>
                  <a:srgbClr val="e00000"/>
                </a:solidFill>
                <a:latin typeface="Comic Sans MS"/>
              </a:rPr>
              <a:t>runs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ast, he 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will wi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the ra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Text Box 15"/>
          <p:cNvSpPr/>
          <p:nvPr/>
        </p:nvSpPr>
        <p:spPr>
          <a:xfrm>
            <a:off x="395280" y="28526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John </a:t>
            </a:r>
            <a:r>
              <a:rPr b="0" lang="en-GB" sz="2600" spc="-1" strike="noStrike">
                <a:solidFill>
                  <a:srgbClr val="e00000"/>
                </a:solidFill>
                <a:latin typeface="Comic Sans MS"/>
              </a:rPr>
              <a:t>ra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ast, he 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would wi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the ra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Text Box 16"/>
          <p:cNvSpPr/>
          <p:nvPr/>
        </p:nvSpPr>
        <p:spPr>
          <a:xfrm>
            <a:off x="4462560" y="22766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is is still possible to happ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Text Box 17"/>
          <p:cNvSpPr/>
          <p:nvPr/>
        </p:nvSpPr>
        <p:spPr>
          <a:xfrm>
            <a:off x="861840" y="3573360"/>
            <a:ext cx="82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is is unlikely to happen because John doesn’t run f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4"/>
          <p:cNvSpPr/>
          <p:nvPr/>
        </p:nvSpPr>
        <p:spPr>
          <a:xfrm>
            <a:off x="324000" y="18900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324000" y="1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Text Box 16"/>
          <p:cNvSpPr/>
          <p:nvPr/>
        </p:nvSpPr>
        <p:spPr>
          <a:xfrm>
            <a:off x="468360" y="127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ck wanted to buy a house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</a:rPr>
              <a:t>last yea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ut he couldn’t do that because he didn’t have any mone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AutoShape 17"/>
          <p:cNvSpPr/>
          <p:nvPr/>
        </p:nvSpPr>
        <p:spPr>
          <a:xfrm>
            <a:off x="324000" y="2349360"/>
            <a:ext cx="5616360" cy="1295640"/>
          </a:xfrm>
          <a:prstGeom prst="wedgeEllipseCallout">
            <a:avLst>
              <a:gd name="adj1" fmla="val -2347"/>
              <a:gd name="adj2" fmla="val 113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d ha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lot of money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ould have bough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2" name="Picture 18" descr="j0230754"/>
          <p:cNvPicPr/>
          <p:nvPr/>
        </p:nvPicPr>
        <p:blipFill>
          <a:blip r:embed="rId1">
            <a:grayscl/>
          </a:blip>
          <a:stretch/>
        </p:blipFill>
        <p:spPr>
          <a:xfrm>
            <a:off x="1498680" y="4149720"/>
            <a:ext cx="1971720" cy="239868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19"/>
          <p:cNvGrpSpPr/>
          <p:nvPr/>
        </p:nvGrpSpPr>
        <p:grpSpPr>
          <a:xfrm>
            <a:off x="5940360" y="2351160"/>
            <a:ext cx="2736720" cy="2519280"/>
            <a:chOff x="5940360" y="2351160"/>
            <a:chExt cx="2736720" cy="2519280"/>
          </a:xfrm>
        </p:grpSpPr>
        <p:sp>
          <p:nvSpPr>
            <p:cNvPr id="954" name="AutoShape 20"/>
            <p:cNvSpPr/>
            <p:nvPr/>
          </p:nvSpPr>
          <p:spPr>
            <a:xfrm>
              <a:off x="5940360" y="235116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5" name="Picture 21" descr="bd06132_"/>
            <p:cNvPicPr/>
            <p:nvPr/>
          </p:nvPicPr>
          <p:blipFill>
            <a:blip r:embed="rId2"/>
            <a:stretch/>
          </p:blipFill>
          <p:spPr>
            <a:xfrm>
              <a:off x="6661080" y="2782800"/>
              <a:ext cx="122544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6" name="Group 22"/>
          <p:cNvGrpSpPr/>
          <p:nvPr/>
        </p:nvGrpSpPr>
        <p:grpSpPr>
          <a:xfrm>
            <a:off x="5940360" y="2349360"/>
            <a:ext cx="2736720" cy="2519640"/>
            <a:chOff x="5940360" y="2349360"/>
            <a:chExt cx="2736720" cy="2519640"/>
          </a:xfrm>
        </p:grpSpPr>
        <p:sp>
          <p:nvSpPr>
            <p:cNvPr id="957" name="AutoShape 23"/>
            <p:cNvSpPr/>
            <p:nvPr/>
          </p:nvSpPr>
          <p:spPr>
            <a:xfrm>
              <a:off x="5940360" y="2349360"/>
              <a:ext cx="2736720" cy="2519640"/>
            </a:xfrm>
            <a:prstGeom prst="cloudCallout">
              <a:avLst>
                <a:gd name="adj1" fmla="val -139731"/>
                <a:gd name="adj2" fmla="val 332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8" name="Picture 24" descr="bl00345_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300720" y="2494080"/>
              <a:ext cx="2089080" cy="163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1" name="Group 4"/>
          <p:cNvGrpSpPr/>
          <p:nvPr/>
        </p:nvGrpSpPr>
        <p:grpSpPr>
          <a:xfrm>
            <a:off x="900000" y="4581360"/>
            <a:ext cx="3958920" cy="2194200"/>
            <a:chOff x="900000" y="4581360"/>
            <a:chExt cx="3958920" cy="2194200"/>
          </a:xfrm>
        </p:grpSpPr>
        <p:pic>
          <p:nvPicPr>
            <p:cNvPr id="962" name="Picture 5" descr="j0230737"/>
            <p:cNvPicPr/>
            <p:nvPr/>
          </p:nvPicPr>
          <p:blipFill>
            <a:blip r:embed="rId1"/>
            <a:stretch/>
          </p:blipFill>
          <p:spPr>
            <a:xfrm>
              <a:off x="2257920" y="4581360"/>
              <a:ext cx="2601000" cy="21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6" descr="j0230332"/>
            <p:cNvPicPr/>
            <p:nvPr/>
          </p:nvPicPr>
          <p:blipFill>
            <a:blip r:embed="rId2"/>
            <a:stretch/>
          </p:blipFill>
          <p:spPr>
            <a:xfrm>
              <a:off x="900000" y="5966280"/>
              <a:ext cx="1290600" cy="78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4" name="Group 7"/>
          <p:cNvGrpSpPr/>
          <p:nvPr/>
        </p:nvGrpSpPr>
        <p:grpSpPr>
          <a:xfrm>
            <a:off x="6084720" y="2852640"/>
            <a:ext cx="2736720" cy="2376360"/>
            <a:chOff x="6084720" y="2852640"/>
            <a:chExt cx="2736720" cy="2376360"/>
          </a:xfrm>
        </p:grpSpPr>
        <p:pic>
          <p:nvPicPr>
            <p:cNvPr id="965" name="Picture 8" descr="j0230746"/>
            <p:cNvPicPr/>
            <p:nvPr/>
          </p:nvPicPr>
          <p:blipFill>
            <a:blip r:embed="rId3"/>
            <a:stretch/>
          </p:blipFill>
          <p:spPr>
            <a:xfrm>
              <a:off x="6732360" y="3141360"/>
              <a:ext cx="13064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AutoShape 9"/>
            <p:cNvSpPr/>
            <p:nvPr/>
          </p:nvSpPr>
          <p:spPr>
            <a:xfrm>
              <a:off x="6084720" y="2852640"/>
              <a:ext cx="2736720" cy="2376360"/>
            </a:xfrm>
            <a:prstGeom prst="cloudCallout">
              <a:avLst>
                <a:gd name="adj1" fmla="val -139731"/>
                <a:gd name="adj2" fmla="val 32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7" name="Text Box 10"/>
          <p:cNvSpPr/>
          <p:nvPr/>
        </p:nvSpPr>
        <p:spPr>
          <a:xfrm>
            <a:off x="250920" y="1413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</a:rPr>
              <a:t>Yesterd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Susan wanted to phone Paul but she couldn’t do that because she didn’t know his numbe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AutoShape 11"/>
          <p:cNvSpPr/>
          <p:nvPr/>
        </p:nvSpPr>
        <p:spPr>
          <a:xfrm>
            <a:off x="539640" y="2637000"/>
            <a:ext cx="5327640" cy="1152360"/>
          </a:xfrm>
          <a:prstGeom prst="wedgeEllipseCallout">
            <a:avLst>
              <a:gd name="adj1" fmla="val 7004"/>
              <a:gd name="adj2" fmla="val 139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d know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s number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ould have phon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468360" y="1484280"/>
            <a:ext cx="8424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3889f6"/>
                </a:solidFill>
                <a:latin typeface="Comic Sans MS"/>
              </a:rPr>
              <a:t>had ha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lot of money, I </a:t>
            </a:r>
            <a:r>
              <a:rPr b="1" lang="en-GB" sz="2200" spc="-1" strike="noStrike">
                <a:solidFill>
                  <a:srgbClr val="0000cc"/>
                </a:solidFill>
                <a:latin typeface="Comic Sans MS"/>
              </a:rPr>
              <a:t>would have bough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3889f6"/>
                </a:solidFill>
                <a:latin typeface="Comic Sans MS"/>
              </a:rPr>
              <a:t>had know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s number, I </a:t>
            </a:r>
            <a:r>
              <a:rPr b="1" lang="en-GB" sz="2200" spc="-1" strike="noStrike">
                <a:solidFill>
                  <a:srgbClr val="0000cc"/>
                </a:solidFill>
                <a:latin typeface="Comic Sans MS"/>
              </a:rPr>
              <a:t>would have phon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Line 5"/>
          <p:cNvSpPr/>
          <p:nvPr/>
        </p:nvSpPr>
        <p:spPr>
          <a:xfrm>
            <a:off x="2050920" y="2492280"/>
            <a:ext cx="0" cy="647640"/>
          </a:xfrm>
          <a:prstGeom prst="line">
            <a:avLst/>
          </a:prstGeom>
          <a:ln w="9360">
            <a:solidFill>
              <a:srgbClr val="3889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Line 6"/>
          <p:cNvSpPr/>
          <p:nvPr/>
        </p:nvSpPr>
        <p:spPr>
          <a:xfrm>
            <a:off x="5796000" y="2565360"/>
            <a:ext cx="0" cy="719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324000" y="3213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-clause:</a:t>
            </a:r>
            <a:br>
              <a:rPr sz="2200"/>
            </a:br>
            <a:r>
              <a:rPr b="1" lang="en-GB" sz="2200" spc="-1" strike="noStrike">
                <a:solidFill>
                  <a:srgbClr val="3889f6"/>
                </a:solidFill>
                <a:latin typeface="Arial"/>
              </a:rPr>
              <a:t>PAST PERFECT SI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3995640" y="321300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0000cc"/>
                </a:solidFill>
                <a:latin typeface="Arial"/>
              </a:rPr>
              <a:t>PAST CONDITIONAL</a:t>
            </a:r>
            <a:br>
              <a:rPr sz="2200"/>
            </a:br>
            <a:r>
              <a:rPr b="1" lang="en-GB" sz="2200" spc="-1" strike="noStrike">
                <a:solidFill>
                  <a:srgbClr val="0000cc"/>
                </a:solidFill>
                <a:latin typeface="Arial"/>
              </a:rPr>
              <a:t>would + have + past partici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1158120" y="4653000"/>
            <a:ext cx="7299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ird conditional refers to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he pa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not based on fac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t expresses the a sit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ontrary to reality in the pa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9:34:33Z</dcterms:created>
  <dc:creator>x</dc:creator>
  <dc:description/>
  <dc:language>en-US</dc:language>
  <cp:lastModifiedBy> </cp:lastModifiedBy>
  <dcterms:modified xsi:type="dcterms:W3CDTF">2011-02-23T21:30:38Z</dcterms:modified>
  <cp:revision>22</cp:revision>
  <dc:subject/>
  <dc:title>Diapozitiv 1</dc:title>
</cp:coreProperties>
</file>